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37FE-A8B9-4AD3-83B8-814D14DD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4CDC-D215-4950-BD42-FDA5F260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1B3-2014-49F9-9A3E-57F0A4DB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B314-3D71-44A1-ACD4-14E7146F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278-2F8C-4F9E-AB2B-8A0FB8F3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336-98BB-4D0A-ABEB-304F34B2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5731-3081-4103-97B9-5830AADC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002-2AB9-4409-90AD-80ACBD2B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C69-24E3-4B81-972A-FBC592E7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238-0044-4242-AA8D-7CA28BF0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9E1-BCED-4BB4-B888-D5E23F29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F5F-3C13-46E9-B8A3-3E91A59A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AC79-F38B-4EEB-ADFE-772171E71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-3   Strengths of Acids and 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609480" y="15238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ong Acids:  completely ionize in aqueous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914400" y="9907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classify acids and bases as strong or weak depending on 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they ionize in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990720" y="1905120"/>
            <a:ext cx="7238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:  HCl(g)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(l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q) + C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q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1600200" y="22860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Why? Because all the reactants make new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85800" y="33526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ak acids:  ionize only slightly in aq.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914400" y="3733920"/>
            <a:ext cx="75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H(aq)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q)    +   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1371600" y="4038480"/>
            <a:ext cx="74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thanoic acid            Water     Hydronium ion       Ethonate 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1828800" y="43434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Why? Ionization of the Ethanoic acid not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295280" y="2666880"/>
            <a:ext cx="7162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,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very high because acid completely dissociates in water.(figure 19.16 p. 6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2133720" y="4648320"/>
            <a:ext cx="5638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,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very low because the acid for the most part doesn’t dissociate. (figure 19.16 p.6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id dissociation constant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:  the ratio of the concentration of the dissociated form of an acid to the concentration of the undissociated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838080" y="1523880"/>
            <a:ext cx="746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The stronger the acid, the larger the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1143000" y="19051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tells how much has dissociated or ion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457200" y="22860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 bases: dissociate completely into metal ions and hydroxide ion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ueou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990720" y="28195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 calcium hydrox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457200" y="32004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k bases:  react with water to form the hydroxide ion and the conju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id of the 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1066680" y="3886200"/>
            <a:ext cx="75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q)    +   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(l)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q)     +     O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1371600" y="4267080"/>
            <a:ext cx="72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mmonia              water                ammonium ion       Hydroxide 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609480" y="4572000"/>
            <a:ext cx="8001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dissociation constant (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  ratio of the conjugate acid time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 of the hydroxide ion to the concentration of the 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the smaller the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 weaker the b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457200" y="11430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 vs. Strength – the battle continu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838080" y="160020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ARE NOT, I REPEAT, ARE NOT THE SA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838080" y="1981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Concentrated (and dilute) tell how much of an acid or base is dissolv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lution (number of mols of the acid/base in a given volu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914400" y="2666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Strong and weak refer to the extent dissociation or ionization. (indicates how many particles ionize or dissociate into 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2:39:20Z</dcterms:created>
  <dc:creator>John Pakledinaz</dc:creator>
  <dc:description/>
  <dc:language>en-US</dc:language>
  <cp:lastModifiedBy>Farwell Area Schools</cp:lastModifiedBy>
  <dcterms:modified xsi:type="dcterms:W3CDTF">2009-02-11T13:59:14Z</dcterms:modified>
  <cp:revision>13</cp:revision>
  <dc:subject/>
  <dc:title>10-3   Strengths of Acids and Bases</dc:title>
</cp:coreProperties>
</file>